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E45-BCAD-496F-829E-FFF784B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904-B0A8-49EA-AD89-DCD89B93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ED0-2798-47E7-A7DD-F292AFFC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D03-6E72-4864-A443-448BDA57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C86-6988-430B-BB9E-16539CE7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164-565B-4A34-9FF9-686B0B4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20D-4BB7-46A8-9164-86188A6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EC24-8454-4328-9C88-6FBA408A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E592-EE38-40BE-9681-26880CA9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6C3-46A5-49CD-94BD-0C734B3B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C0CE-E4B4-47B2-A664-B8EC514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0B5-02A9-4ADE-B1F2-C3A51DA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8A8-FC02-4D5E-8BB2-C7EABE9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0FE-1058-420C-A3F1-5B24EC1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B44-9FA6-47E1-8C75-9CD4858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FE3B-D476-4FAF-860F-940420F3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F29-2A15-4761-9B6D-73210F26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21D-6A46-4A62-9E4B-513C58E2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CB8-7CCA-452F-85CA-68ADDB2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A07-28E3-4777-AEA9-B0CAE0C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90A-26D8-41A1-85C6-E8A2573F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D72-4D81-4BAE-8A76-725A989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EBF-FD35-417F-B936-546D7C0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1A4-3AFA-4773-82CB-7E31C09F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2859-E609-4315-BEFC-EE905788662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CA84-C592-477A-9EC4-10B9828DAAC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Variables &amp; Calculation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F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sting    =   type convers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Use whenever needed / want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 I = 30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loat x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x=I  ;      //     x now holds   30.0     ,  I still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y = 33.179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 z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 = (int) y  ;    //  z now holds  33  an integ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Role of expression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 (“Hi”, 50, 5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(“Hi “, x , y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0" y="1905120"/>
            <a:ext cx="914400" cy="990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1523880" cy="121932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114800"/>
            <a:ext cx="2895480" cy="198108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057400"/>
            <a:ext cx="1218960" cy="914400"/>
          </a:xfrm>
          <a:prstGeom prst="smileyFace">
            <a:avLst>
              <a:gd name="adj" fmla="val 9282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838080"/>
            <a:ext cx="2743200" cy="15242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1143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rawOval(x,y, 50,50); NOT 130,130,50,5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2057400"/>
            <a:ext cx="1371600" cy="76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1447920"/>
            <a:ext cx="68580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62320" y="2057400"/>
            <a:ext cx="1523880" cy="76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3048120"/>
            <a:ext cx="3047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ts easier to move Snowman when using variable names AND when in a loop = Applet MOTION 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X = X +20; // then redra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tegers vs. float (real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 - float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 numbOfStudents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myheight, mass of atomgrams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  +-  2,147,483,64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+- 3.4 x 10 to the 38th power (38 zero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2.34f    (double precision if no 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Variable nam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 with letter or _ or $ (A..Z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n have 0 ..9, or _ or $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ny length name OK  should be descrip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es” NOT  “x”  holds number of ap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lculation program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 … // the usual for an app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Calculation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 length, breadth, area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ngth 20;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readth = 10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could be int length = 20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rea = length * breadth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( “Area is = “ + area, 100,10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590920"/>
            <a:ext cx="0" cy="2590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4190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4343400"/>
            <a:ext cx="1295640" cy="1143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0292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 answer for are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t 100,100  “X”, “Y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&lt;applet “code = Calculation.class”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idth/height same as bef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= assignment operato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assignment operator  =     NOT S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(A = = B)  ….A test for equa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perators in Arithmetic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ierarch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 * %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+ 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ame order you learned in elementary schoo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 % modulo arithmetic operator IS a divi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swer   7 /  2          is   3      B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swer 7 % 2         is   1  (an integ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isplay answers after calculations are all comple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String(“Answer is =“  + area , 100, 10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ea is variable n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00, 100    X and Y coordina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16:53:16Z</dcterms:created>
  <dc:creator>Rod Farkas</dc:creator>
  <dc:description/>
  <dc:language>en-US</dc:language>
  <cp:lastModifiedBy>Admin User</cp:lastModifiedBy>
  <dcterms:modified xsi:type="dcterms:W3CDTF">2001-11-27T16:42:14Z</dcterms:modified>
  <cp:revision>4</cp:revision>
  <dc:subject/>
  <dc:title>Variables &amp; Calculations</dc:title>
</cp:coreProperties>
</file>